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F6D-CE2C-4C4D-84CC-459E6A54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4B3-F95D-4681-BB47-583DCB82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6E7-CF39-48AA-B8BB-34CB15DF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2C9-DFE9-4346-B988-3F23CDBE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664-A8FC-471D-9157-638FC601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2E2-2863-4C60-A282-5FC581CC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066-DB63-4455-BA73-6BC6D59E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D1C-FB55-41C4-9FF6-1C7D1DAA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46C-C22B-46A4-99CD-E1C67ADD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CFB-AA90-4E17-A043-47D640E1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5B8-E02B-4C4E-B4CB-1CAC7221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493-EAC7-41C7-83B7-FEDA1FF7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AD4B-780E-43E0-A7E4-D3414535D0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7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0080" y="1447920"/>
            <a:ext cx="6278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dictive Value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agnostic Te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75438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54380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52480" y="5105520"/>
            <a:ext cx="54104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7543800" cy="1066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7238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754380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91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7620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7620120" cy="3200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162920" y="5791320"/>
            <a:ext cx="13716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20120" cy="3124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62012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057400" y="4648320"/>
            <a:ext cx="4343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620120" cy="3124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620120" cy="914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086600" y="4038480"/>
            <a:ext cx="1447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90720" y="449568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3349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7543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391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54380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467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6784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8080" y="649440"/>
            <a:ext cx="74678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other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7620120" cy="2803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620120" cy="2895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81680" y="5867280"/>
            <a:ext cx="15242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2895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620120" cy="381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371600" y="4191120"/>
            <a:ext cx="6324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62012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3076560"/>
            <a:ext cx="7620120" cy="1343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62120" y="4495680"/>
            <a:ext cx="75438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20120" cy="2895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20120" cy="60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934320" y="4191120"/>
            <a:ext cx="1371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00200" y="4572000"/>
            <a:ext cx="5867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924680" cy="394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924680" cy="2209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162920" y="6095880"/>
            <a:ext cx="1447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924680" cy="274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29000" y="2666880"/>
            <a:ext cx="24382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924680" cy="129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" y="4419720"/>
            <a:ext cx="7924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24680" cy="822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924680" cy="2743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81280" y="2743200"/>
            <a:ext cx="2362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505320"/>
            <a:ext cx="17524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79246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77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449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4952880"/>
            <a:ext cx="71629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4267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7543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20:44:14Z</dcterms:modified>
  <cp:revision>217</cp:revision>
  <dc:subject/>
  <dc:title>Slide 1</dc:title>
</cp:coreProperties>
</file>